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A05-65BD-464F-8B00-466A86C1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262-46FD-4E5A-A0DB-D35421E2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F96-5E2A-4303-86A6-F20B842B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D7C-B318-4EE1-B219-1B94ED5D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1A34-605E-4CC8-BDDE-1A78BAA4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4D0-145C-4ABB-8566-F368DF4F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A1C9-8CA4-4C48-A812-5BD273D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34F9-C83E-46B8-86D4-618EFD3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06A7-0BB7-4B66-8297-99FA3E94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B882-3C12-4549-A625-0AF63A64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5249-7073-4078-A36A-E3EEBA6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5CD-F4BF-4D88-A511-FF5B10D0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2D75-DD24-4F39-9852-5D7F1EE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51BC-96EE-4188-9533-73E14911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934-9FFA-40DB-9D88-40666592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A762-7C4F-4048-A983-C17806D3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534-7933-4E5C-90EF-68FE2D95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FC4-9517-4D4D-8745-22F0AB93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D57-C202-4F4E-B3F8-C2180B0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69-05EC-48BB-9C56-0C03217F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B8C-9813-4CEB-8439-801C6D33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F55-B21C-4A2A-8D17-558CD1C1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112-620C-476E-A9C4-E8D19661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81C-DC67-4844-9F15-38A0A05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E05C-38F2-4B28-AADE-493B13B4CD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F87-B91E-4E47-B087-EC8AB1C7FA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ia.com/mc/87086.html" TargetMode="External"/><Relationship Id="rId2" Type="http://schemas.openxmlformats.org/officeDocument/2006/relationships/hyperlink" Target="http://www.cogcon.com/gamegoo/games/squanky2/squanky2.html" TargetMode="External"/><Relationship Id="rId3" Type="http://schemas.openxmlformats.org/officeDocument/2006/relationships/hyperlink" Target="http://www.quia.com/mc/86241.html" TargetMode="External"/><Relationship Id="rId4" Type="http://schemas.openxmlformats.org/officeDocument/2006/relationships/image" Target="../media/image3.wmf"/><Relationship Id="rId5" Type="http://schemas.openxmlformats.org/officeDocument/2006/relationships/slide" Target="slide2.xml"/><Relationship Id="rId6" Type="http://schemas.openxmlformats.org/officeDocument/2006/relationships/hyperlink" Target="http://www.bbc.co.uk/skillswise/words/spelling/soundandspell/syllables/game.shtml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hyperlink" Target="http://www.ictgames.com/spacejumps.html" TargetMode="External"/><Relationship Id="rId4" Type="http://schemas.openxmlformats.org/officeDocument/2006/relationships/slide" Target="slide2.xm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bbc.co.uk/skillswise/words/grammar/sentencebasics/whatisasentence/flash3.shtml" TargetMode="External"/><Relationship Id="rId3" Type="http://schemas.openxmlformats.org/officeDocument/2006/relationships/hyperlink" Target="http://www.bbc.co.uk/skillswise/words/grammar/interestsentences/compoundsentences/game.shtml" TargetMode="External"/><Relationship Id="rId4" Type="http://schemas.openxmlformats.org/officeDocument/2006/relationships/hyperlink" Target="http://www.ictgames.com/dinosaurwordsrepeat.html" TargetMode="External"/><Relationship Id="rId5" Type="http://schemas.openxmlformats.org/officeDocument/2006/relationships/image" Target="../media/image8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328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Year 3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Digital Learning Centr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149720"/>
            <a:ext cx="5113440" cy="865080"/>
          </a:xfrm>
          <a:custGeom>
            <a:avLst/>
            <a:gdLst>
              <a:gd name="textAreaLeft" fmla="*/ 0 w 5113440"/>
              <a:gd name="textAreaRight" fmla="*/ 5113800 w 511344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28720" y="6554520"/>
            <a:ext cx="38149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Home Pag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268360" y="242100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2268360" y="3645000"/>
            <a:ext cx="1151280" cy="93636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6556" h="21600">
                <a:moveTo>
                  <a:pt x="0" y="0"/>
                </a:moveTo>
                <a:lnTo>
                  <a:pt x="26556" y="0"/>
                </a:lnTo>
                <a:lnTo>
                  <a:pt x="26556" y="21600"/>
                </a:lnTo>
                <a:lnTo>
                  <a:pt x="0" y="21600"/>
                </a:lnTo>
                <a:close/>
              </a:path>
              <a:path fill="lightenLess" w="26556" h="21600">
                <a:moveTo>
                  <a:pt x="0" y="0"/>
                </a:moveTo>
                <a:lnTo>
                  <a:pt x="26556" y="0"/>
                </a:lnTo>
                <a:lnTo>
                  <a:pt x="25156" y="1400"/>
                </a:lnTo>
                <a:lnTo>
                  <a:pt x="1400" y="1400"/>
                </a:lnTo>
                <a:close/>
              </a:path>
              <a:path fill="darken" w="26556" h="21600">
                <a:moveTo>
                  <a:pt x="26556" y="0"/>
                </a:moveTo>
                <a:lnTo>
                  <a:pt x="26556" y="21600"/>
                </a:lnTo>
                <a:lnTo>
                  <a:pt x="25156" y="20200"/>
                </a:lnTo>
                <a:lnTo>
                  <a:pt x="25156" y="1400"/>
                </a:lnTo>
                <a:close/>
              </a:path>
              <a:path fill="darkenLess" w="26556" h="21600">
                <a:moveTo>
                  <a:pt x="26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6" y="20200"/>
                </a:lnTo>
                <a:close/>
              </a:path>
              <a:path fill="lighten" w="26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2268360" y="4797360"/>
            <a:ext cx="1151280" cy="93672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6546" h="21600">
                <a:moveTo>
                  <a:pt x="0" y="0"/>
                </a:moveTo>
                <a:lnTo>
                  <a:pt x="26546" y="0"/>
                </a:lnTo>
                <a:lnTo>
                  <a:pt x="26546" y="21600"/>
                </a:lnTo>
                <a:lnTo>
                  <a:pt x="0" y="21600"/>
                </a:lnTo>
                <a:close/>
              </a:path>
              <a:path fill="lightenLess" w="26546" h="21600">
                <a:moveTo>
                  <a:pt x="0" y="0"/>
                </a:moveTo>
                <a:lnTo>
                  <a:pt x="26546" y="0"/>
                </a:lnTo>
                <a:lnTo>
                  <a:pt x="25146" y="1400"/>
                </a:lnTo>
                <a:lnTo>
                  <a:pt x="1400" y="1400"/>
                </a:lnTo>
                <a:close/>
              </a:path>
              <a:path fill="darken" w="26546" h="21600">
                <a:moveTo>
                  <a:pt x="26546" y="0"/>
                </a:moveTo>
                <a:lnTo>
                  <a:pt x="26546" y="21600"/>
                </a:lnTo>
                <a:lnTo>
                  <a:pt x="25146" y="20200"/>
                </a:lnTo>
                <a:lnTo>
                  <a:pt x="25146" y="1400"/>
                </a:lnTo>
                <a:close/>
              </a:path>
              <a:path fill="darkenLess" w="26546" h="21600">
                <a:moveTo>
                  <a:pt x="26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6" y="20200"/>
                </a:lnTo>
                <a:close/>
              </a:path>
              <a:path fill="lighten" w="26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13372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645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869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867280" y="1916280"/>
            <a:ext cx="1844640" cy="183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5000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Readin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>
            <a:hlinkClick r:id="rId1"/>
          </p:cNvPr>
          <p:cNvSpPr/>
          <p:nvPr/>
        </p:nvSpPr>
        <p:spPr>
          <a:xfrm>
            <a:off x="1835280" y="2852640"/>
            <a:ext cx="936360" cy="936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/>
          </p:cNvPr>
          <p:cNvSpPr/>
          <p:nvPr/>
        </p:nvSpPr>
        <p:spPr>
          <a:xfrm>
            <a:off x="1835280" y="393372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/>
          </p:cNvPr>
          <p:cNvSpPr/>
          <p:nvPr/>
        </p:nvSpPr>
        <p:spPr>
          <a:xfrm>
            <a:off x="1835280" y="177336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184464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ac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29242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mpoun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076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ynonyms – Simila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335640" y="1700280"/>
            <a:ext cx="2808360" cy="265104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7380360" y="5589720"/>
            <a:ext cx="863640" cy="93492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382">
                <a:moveTo>
                  <a:pt x="0" y="0"/>
                </a:moveTo>
                <a:lnTo>
                  <a:pt x="21600" y="0"/>
                </a:lnTo>
                <a:lnTo>
                  <a:pt x="21600" y="23382"/>
                </a:lnTo>
                <a:lnTo>
                  <a:pt x="0" y="23382"/>
                </a:lnTo>
                <a:close/>
              </a:path>
              <a:path fill="lightenLess" w="21600" h="23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82">
                <a:moveTo>
                  <a:pt x="21600" y="0"/>
                </a:moveTo>
                <a:lnTo>
                  <a:pt x="21600" y="23382"/>
                </a:lnTo>
                <a:lnTo>
                  <a:pt x="20200" y="21982"/>
                </a:lnTo>
                <a:lnTo>
                  <a:pt x="20200" y="1400"/>
                </a:lnTo>
                <a:close/>
              </a:path>
              <a:path fill="darkenLess" w="21600" h="23382">
                <a:moveTo>
                  <a:pt x="21600" y="23382"/>
                </a:moveTo>
                <a:lnTo>
                  <a:pt x="0" y="23382"/>
                </a:lnTo>
                <a:lnTo>
                  <a:pt x="1400" y="21982"/>
                </a:lnTo>
                <a:lnTo>
                  <a:pt x="20200" y="21982"/>
                </a:lnTo>
                <a:close/>
              </a:path>
              <a:path fill="lighten" w="21600" h="23382">
                <a:moveTo>
                  <a:pt x="0" y="23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82"/>
                </a:lnTo>
                <a:close/>
              </a:path>
              <a:path fill="darken" w="21600" h="23382">
                <a:moveTo>
                  <a:pt x="10800" y="4728"/>
                </a:moveTo>
                <a:lnTo>
                  <a:pt x="13376" y="7339"/>
                </a:ln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lnTo>
                  <a:pt x="17763" y="11691"/>
                </a:lnTo>
                <a:lnTo>
                  <a:pt x="16109" y="11691"/>
                </a:lnTo>
                <a:lnTo>
                  <a:pt x="16109" y="18880"/>
                </a:lnTo>
                <a:lnTo>
                  <a:pt x="5491" y="18880"/>
                </a:lnTo>
                <a:lnTo>
                  <a:pt x="5491" y="11691"/>
                </a:lnTo>
                <a:lnTo>
                  <a:pt x="3837" y="11691"/>
                </a:lnTo>
                <a:close/>
              </a:path>
              <a:path fill="darkenLess" w="21600" h="23382">
                <a:moveTo>
                  <a:pt x="13376" y="7339"/>
                </a:move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close/>
              </a:path>
              <a:path fill="darkenLess" w="21600" h="23382">
                <a:moveTo>
                  <a:pt x="9877" y="15190"/>
                </a:moveTo>
                <a:lnTo>
                  <a:pt x="11723" y="15190"/>
                </a:lnTo>
                <a:lnTo>
                  <a:pt x="11723" y="18880"/>
                </a:lnTo>
                <a:lnTo>
                  <a:pt x="16109" y="18880"/>
                </a:lnTo>
                <a:lnTo>
                  <a:pt x="16109" y="11691"/>
                </a:lnTo>
                <a:lnTo>
                  <a:pt x="5491" y="11691"/>
                </a:lnTo>
                <a:lnTo>
                  <a:pt x="5491" y="18880"/>
                </a:lnTo>
                <a:lnTo>
                  <a:pt x="9877" y="1888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6"/>
          </p:cNvPr>
          <p:cNvSpPr/>
          <p:nvPr/>
        </p:nvSpPr>
        <p:spPr>
          <a:xfrm>
            <a:off x="1835280" y="508464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157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yllable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Math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189160" cy="2006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1119240" cy="175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198900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068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/>
          </p:cNvPr>
          <p:cNvSpPr/>
          <p:nvPr/>
        </p:nvSpPr>
        <p:spPr>
          <a:xfrm>
            <a:off x="1835280" y="4149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1916280"/>
            <a:ext cx="3887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Funky Mum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mber bonds to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068640"/>
            <a:ext cx="36734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ddition Ma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n adding bingo g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4149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pace Jump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dding by bridging through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7236000" y="5516640"/>
            <a:ext cx="1081080" cy="865080"/>
          </a:xfrm>
          <a:custGeom>
            <a:avLst/>
            <a:gdLst>
              <a:gd name="textAreaLeft" fmla="*/ 55800 w 1081080"/>
              <a:gd name="textAreaRight" fmla="*/ 1025280 w 10810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91" h="21600">
                <a:moveTo>
                  <a:pt x="0" y="0"/>
                </a:moveTo>
                <a:lnTo>
                  <a:pt x="26991" y="0"/>
                </a:lnTo>
                <a:lnTo>
                  <a:pt x="26991" y="21600"/>
                </a:lnTo>
                <a:lnTo>
                  <a:pt x="0" y="21600"/>
                </a:lnTo>
                <a:close/>
              </a:path>
              <a:path fill="lightenLess" w="26991" h="21600">
                <a:moveTo>
                  <a:pt x="0" y="0"/>
                </a:moveTo>
                <a:lnTo>
                  <a:pt x="26991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1" h="21600">
                <a:moveTo>
                  <a:pt x="26991" y="0"/>
                </a:moveTo>
                <a:lnTo>
                  <a:pt x="26991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1" h="21600">
                <a:moveTo>
                  <a:pt x="26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1" h="21600">
                <a:moveTo>
                  <a:pt x="13496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5" y="10800"/>
                </a:lnTo>
                <a:lnTo>
                  <a:pt x="18805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3" y="10800"/>
                </a:lnTo>
                <a:close/>
              </a:path>
              <a:path fill="darkenLess" w="26991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1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5" y="17989"/>
                </a:lnTo>
                <a:lnTo>
                  <a:pt x="18805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95280" y="981000"/>
            <a:ext cx="168912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5157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5157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dding 9 Fairy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Learn to add 9 by adding 10 and takeawa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Spell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948360" y="4149720"/>
            <a:ext cx="191448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1908000" y="2133720"/>
            <a:ext cx="865440" cy="7189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000" h="21600">
                <a:moveTo>
                  <a:pt x="0" y="0"/>
                </a:moveTo>
                <a:lnTo>
                  <a:pt x="26000" y="0"/>
                </a:lnTo>
                <a:lnTo>
                  <a:pt x="26000" y="21600"/>
                </a:lnTo>
                <a:lnTo>
                  <a:pt x="0" y="21600"/>
                </a:lnTo>
                <a:close/>
              </a:path>
              <a:path fill="lightenLess" w="26000" h="21600">
                <a:moveTo>
                  <a:pt x="0" y="0"/>
                </a:moveTo>
                <a:lnTo>
                  <a:pt x="26000" y="0"/>
                </a:lnTo>
                <a:lnTo>
                  <a:pt x="24600" y="1400"/>
                </a:lnTo>
                <a:lnTo>
                  <a:pt x="1400" y="1400"/>
                </a:lnTo>
                <a:close/>
              </a:path>
              <a:path fill="darken" w="26000" h="21600">
                <a:moveTo>
                  <a:pt x="26000" y="0"/>
                </a:moveTo>
                <a:lnTo>
                  <a:pt x="26000" y="21600"/>
                </a:lnTo>
                <a:lnTo>
                  <a:pt x="24600" y="20200"/>
                </a:lnTo>
                <a:lnTo>
                  <a:pt x="24600" y="1400"/>
                </a:lnTo>
                <a:close/>
              </a:path>
              <a:path fill="darkenLess" w="26000" h="21600">
                <a:moveTo>
                  <a:pt x="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0" y="20200"/>
                </a:lnTo>
                <a:close/>
              </a:path>
              <a:path fill="lighten" w="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1337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hat is a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1908000" y="306864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3280" y="306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Putting sentences togethe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4"/>
          </p:cNvPr>
          <p:cNvSpPr/>
          <p:nvPr/>
        </p:nvSpPr>
        <p:spPr>
          <a:xfrm>
            <a:off x="1908000" y="4797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4797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Dinosaur Word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1752840" cy="18907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7524720" y="5805360"/>
            <a:ext cx="792360" cy="792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393372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400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ord build &amp; bank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4:35:10Z</dcterms:created>
  <dc:creator>Gunn</dc:creator>
  <dc:description/>
  <dc:language>en-US</dc:language>
  <cp:lastModifiedBy>lindal</cp:lastModifiedBy>
  <dcterms:modified xsi:type="dcterms:W3CDTF">2007-05-10T14:07:52Z</dcterms:modified>
  <cp:revision>21</cp:revision>
  <dc:subject/>
  <dc:title>Year 1 and 2  Digital Learning Centre</dc:title>
</cp:coreProperties>
</file>